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E3B-0D69-48EA-8E4E-F250F860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D15-0CE0-4D2D-A794-D7C19E1C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EA0-346B-43B1-9CFC-87E4ED51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67BC-5575-40FA-9318-32EF8635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1C9A-CD30-4FC9-A7E8-78C7423B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8E3B-C123-492D-916A-47D0EC7B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5E79-02AC-45AD-8372-62FCA46B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0E50-E75A-4BA7-9A33-9BCADE8C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ADD3-2E96-4629-BF63-8BBB11E1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D012-C8A0-49F4-8AE1-EA5AD5D0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68E2-813D-45E8-9968-361EC45E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410-0B9B-4074-BA26-6377FEBD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08BC-521E-4643-AE24-492F6BB0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3A34-7926-4C4D-A076-2FBAE892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CC34-8ABD-4C79-B806-66541050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3CAF-0672-490F-8794-2D8ACA64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2533-B877-4FE3-8579-D36A7083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51FB-C0CF-4661-B79E-EB22EED1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AC6-DB58-4025-BD9F-AB0DA7AE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4EA-FAF7-49FC-B47E-6E08B89C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5FB-8EF8-4E2B-914D-F00BDEC5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924-6450-40DF-AF68-256F937D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76E-7317-4BD4-8356-B6C651AA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A70-729F-47E6-977C-C1AAF179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8A8E-C5CA-4184-9202-180EB8F7AB8F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319F-7464-418A-A405-3C417240D2D2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rtualsalt.com/gothic.htm" TargetMode="External"/><Relationship Id="rId3" Type="http://schemas.openxmlformats.org/officeDocument/2006/relationships/hyperlink" Target="http://academic.brooklyn.cuny.edu/enlish/melani/gothic/gothic/goyhic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Gothic Literature</a:t>
            </a:r>
            <a:br>
              <a:rPr sz="4800"/>
            </a:b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By Karina Crochiere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the time period that Gothic  Literature   was Written!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tarted 1785 Horace Walpole's </a:t>
            </a:r>
            <a:r>
              <a:rPr b="0" i="1" lang="en-US" sz="3200" spc="-1" strike="noStrike">
                <a:solidFill>
                  <a:srgbClr val="ffff66"/>
                </a:solidFill>
                <a:latin typeface="Verdana"/>
              </a:rPr>
              <a:t>The Castle of Otranto the first gothic no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Where did most Novels take place ?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Most novels took place  in the  middle ages during dark time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In Italy  most of  the time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Elements of Gothic Novels 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akes place in a castle- sets up  the actio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Is full of mystery and Suspense-built around a fear and mystery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legend- is centered around the castle, can be confusing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Omens- a character can see something  or feel something to show something will happen 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Elements of Gothic Novels continue 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uper natural events- Drama happens, something happens  that u can’t explain ex a miracle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Over wrought emotion-to  much of emotion characters can over come their fears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omen in distress/ terror of male- women  become scared freighted by the  male that has too much power over them they  have an emotional wreck because of   the terror of power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Elements of Gothic Novels 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e metonymy of gloom and horror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Metonymy is a subtext of of metaphor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Is applied by the elements by  mystery,danger,or super natura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Writing style 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Always use proper fancy words to make more gothic and set in  the time zone where had more proper fancy  word use.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Ex: mystery writer used  words like ghost, goblins,  haunted . Miracles etc. 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Websites 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http://virtualsalt.com/gothic.htm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Verdana"/>
                <a:hlinkClick r:id="rId3"/>
              </a:rPr>
              <a:t>http://academic.brooklyn.cuny.edu/enlish/melani/gothic/gothic/goyhic.htm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7:23:11Z</dcterms:created>
  <dc:creator>nps</dc:creator>
  <dc:description/>
  <dc:language>en-US</dc:language>
  <cp:lastModifiedBy>nps</cp:lastModifiedBy>
  <dcterms:modified xsi:type="dcterms:W3CDTF">2011-10-14T18:10:33Z</dcterms:modified>
  <cp:revision>4</cp:revision>
  <dc:subject/>
  <dc:title>Gothic Literature </dc:title>
</cp:coreProperties>
</file>